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893-F761-4D17-B3EE-EC3FFD350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ic, royalty, castles, events happen in 3s and 7s, good vs evil, happy e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31F-4BF0-454B-9D67-ACF460B9B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66E-D7DE-49DB-BDFC-21ECF596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206-E38D-41DF-B9B4-B90C0CF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F863-AE45-47DF-8CB1-094C9B3C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4E4-A2CA-41FA-97A7-C7C3DFB2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5B9-1CEC-4F89-8DDA-20BB1345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9A00-25AC-4A87-BB33-4CFE39FC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B12-06E3-4C51-964C-5F193D9E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0E4-E562-4D9B-86A1-C2EB4939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08C-BA07-403A-9E7A-237256AA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BF9-7E42-42E0-8F31-A2BDBDAD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5C94-496F-4B30-B257-65B9F186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792-A762-4BEA-B272-27553C3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46DE-75DC-43C5-9800-5248B1C98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iry Tal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ecx.images-amazon.com/images/I/517JWJGVCCL._BO2,204,203,200_PIsitb-sticker-arrow-click,TopRight,35,-76_AA300_SH20_OU01_.jpg"/>
          <p:cNvPicPr/>
          <p:nvPr/>
        </p:nvPicPr>
        <p:blipFill>
          <a:blip r:embed="rId1"/>
          <a:srcRect l="11539" t="14109" r="17952" b="0"/>
          <a:stretch/>
        </p:blipFill>
        <p:spPr>
          <a:xfrm>
            <a:off x="1523880" y="380880"/>
            <a:ext cx="50292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www.cricketmag.com/ProductImages/CINDY.jpg"/>
          <p:cNvPicPr/>
          <p:nvPr/>
        </p:nvPicPr>
        <p:blipFill>
          <a:blip r:embed="rId1"/>
          <a:stretch/>
        </p:blipFill>
        <p:spPr>
          <a:xfrm>
            <a:off x="1066680" y="380880"/>
            <a:ext cx="670572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ritingupastorm.typepad.com/.a/6a01156fd16a08970c011570448596970c-800wi"/>
          <p:cNvPicPr/>
          <p:nvPr/>
        </p:nvPicPr>
        <p:blipFill>
          <a:blip r:embed="rId1"/>
          <a:stretch/>
        </p:blipFill>
        <p:spPr>
          <a:xfrm>
            <a:off x="1295280" y="301680"/>
            <a:ext cx="60962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you noti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sett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charact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2.bp.blogspot.com/_lHECU9qpCfY/S4cgJZtXHkI/AAAAAAAAA-U/pR9PXspAnic/s320/snow+white+book.jpg"/>
          <p:cNvPicPr/>
          <p:nvPr/>
        </p:nvPicPr>
        <p:blipFill>
          <a:blip r:embed="rId1"/>
          <a:stretch/>
        </p:blipFill>
        <p:spPr>
          <a:xfrm>
            <a:off x="1143000" y="152280"/>
            <a:ext cx="6477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booksofwonder.com/images/R0032220.dd.gif"/>
          <p:cNvPicPr/>
          <p:nvPr/>
        </p:nvPicPr>
        <p:blipFill>
          <a:blip r:embed="rId1"/>
          <a:stretch/>
        </p:blipFill>
        <p:spPr>
          <a:xfrm>
            <a:off x="1447920" y="457200"/>
            <a:ext cx="6019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photo.goodreads.com/books/1172678031l/205966.jpg"/>
          <p:cNvPicPr/>
          <p:nvPr/>
        </p:nvPicPr>
        <p:blipFill>
          <a:blip r:embed="rId1"/>
          <a:stretch/>
        </p:blipFill>
        <p:spPr>
          <a:xfrm>
            <a:off x="685800" y="304920"/>
            <a:ext cx="716292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upload.wikimedia.org/wikipedia/en/1/17/The_Paper_Bag_Princess.jpg"/>
          <p:cNvPicPr/>
          <p:nvPr/>
        </p:nvPicPr>
        <p:blipFill>
          <a:blip r:embed="rId1"/>
          <a:stretch/>
        </p:blipFill>
        <p:spPr>
          <a:xfrm>
            <a:off x="838080" y="380880"/>
            <a:ext cx="6324840" cy="62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02:28Z</dcterms:created>
  <dc:creator>127paire</dc:creator>
  <dc:description/>
  <dc:language>en-US</dc:language>
  <cp:lastModifiedBy>127paire</cp:lastModifiedBy>
  <dcterms:modified xsi:type="dcterms:W3CDTF">2011-10-13T14:13:15Z</dcterms:modified>
  <cp:revision>2</cp:revision>
  <dc:subject/>
  <dc:title>Fairy Tale Books</dc:title>
</cp:coreProperties>
</file>